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B6F-D2F7-4FE3-BEEA-D575750F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B20-6986-4C8E-B2AD-FD443A32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184-026B-4A0F-AAF5-BCEA59CB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FBB-DCC9-4A8F-89F1-ABD9EB17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6DE-99ED-4264-BEF9-6EB19F56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869-97FB-4533-A6D7-477AB90A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F36-4F10-4258-9B8E-F172B8A7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5AE-462D-42C4-8101-D4FB3267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F4B-2EC4-48C9-AD02-0F1D9936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5CC-B168-48CF-A82B-A3F45D94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474-6D5E-4AB7-A21D-7D5CBB0E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F66-0A49-4478-994C-1A299CF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5712-7A66-433A-9703-5F513B738A6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a: conquistare un territorio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ovi insediamenti-Centro di Talassoterap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nta Sa Na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20" y="1341360"/>
            <a:ext cx="9109080" cy="352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000" y="4915080"/>
            <a:ext cx="8964720" cy="1898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7:53:18Z</dcterms:created>
  <dc:creator>diddi</dc:creator>
  <dc:description/>
  <dc:language>en-US</dc:language>
  <cp:lastModifiedBy>diddi</cp:lastModifiedBy>
  <dcterms:modified xsi:type="dcterms:W3CDTF">2006-02-15T23:05:44Z</dcterms:modified>
  <cp:revision>130</cp:revision>
  <dc:subject/>
  <dc:title>GOLFO DELL’ASINARA</dc:title>
</cp:coreProperties>
</file>