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101-BCED-4235-AF46-96538E3C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73C-454C-4CF8-8728-5B8D413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2C9-A12B-4C32-BBB2-3FE36952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08B-EE1C-42AC-AA09-F1271541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517-18B8-426A-8B31-B307AE7B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B82-933B-4412-BCDB-925A28C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2C4-1C2B-43EE-A185-22F1148B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033-5690-494A-A139-2295546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D39-148E-4C3A-9DAC-6976BD7B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204-D865-4880-AE0C-F80A6B86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A88-5022-4624-9719-D68F620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FFC-6CBA-4F97-AD9D-7A0A2AA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08E9-1E4D-4E4F-8A3E-0E9BBC0FC97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a: conquistare un territorio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ovi insediamenti-Centro di Talassoterap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nta Sa Na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0" y="1341360"/>
            <a:ext cx="9109080" cy="352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4915080"/>
            <a:ext cx="8964720" cy="1898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7:53:18Z</dcterms:created>
  <dc:creator>diddi</dc:creator>
  <dc:description/>
  <dc:language>en-US</dc:language>
  <cp:lastModifiedBy>diddi</cp:lastModifiedBy>
  <dcterms:modified xsi:type="dcterms:W3CDTF">2006-02-15T23:05:44Z</dcterms:modified>
  <cp:revision>130</cp:revision>
  <dc:subject/>
  <dc:title>GOLFO DELL’ASINARA</dc:title>
</cp:coreProperties>
</file>